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461-FBAE-45C2-B7B1-38A17237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725-C4BC-4A4A-8E5F-ECEA1E26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1A2-E955-4C0B-BAF6-8FF4EAB8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4AD-5C0F-4369-B4CC-BFFB89DE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EC2-0747-4A53-8420-68C6B8A6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E0B-A48F-448D-AE9A-4E0A6EDF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53B-C261-40C5-9F52-0B262ABB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51D-B475-4380-A636-D3EC12D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049-6D17-4885-A844-BFC16012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A64-DC98-4B4C-8B7F-F6EB912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EF1-62CF-4768-B157-2FA71A8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448-0C75-4796-BE1C-73004EE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0DF4-B556-4BDC-8354-AC54665D5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6A6-BC6A-49FE-8643-FB9B278BA4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267080" cy="277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234324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11480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Man Kicking World, II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Viola Frey, American, 1933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Ceram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25” x 89” x 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038480"/>
            <a:ext cx="38098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Large Vess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lara Couch, American, 1921-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C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8” x 15” x 1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7800" y="1522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25640" y="87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7680" y="87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080" y="6107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5320" y="556272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5F2-1A31-483A-8C00-1FD328DB402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943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495680" cy="292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305080" cy="3073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4267080"/>
            <a:ext cx="80773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 and Social Studies:  use of materials o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 and Geometry:  two and three dimensional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 and Language Art:  artist’s purpose, narrative, descrip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, main idea, compare and contrast, oral langua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,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:  properties of soil, natural resources,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564-B67B-4836-A44D-E7EF88C922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495680" cy="2921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305080" cy="3073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2600" y="15228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art is made of som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9800" y="3809880"/>
            <a:ext cx="77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 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paper, ink, pai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, clay, metal, stone, glass, fiber, and pla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se art objects are made of the sam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the common material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D47-C7D6-4B62-8031-1A59089546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343400" cy="282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114640" cy="281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52280"/>
            <a:ext cx="8458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rt objects are made of clay, but their appearance is very differen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960" y="3962520"/>
            <a:ext cx="817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bjects were formed from w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ated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oven until they were hard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on the lef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means the surfac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n covered with a layer of colorful glassy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on the right was not gla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528-DFE7-480F-9BED-3E101E6511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495680" cy="292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19920" y="990720"/>
            <a:ext cx="2305080" cy="3073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0"/>
            <a:ext cx="85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objects made of the same material may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feel very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040" y="3962520"/>
            <a:ext cx="800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me of the ways they look differen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imagine each would feel if you could touc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anything in your classroom that wou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the same as either of these objects? What is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6C7-125E-4352-95BC-2ACD826761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267440" cy="277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48520" y="304920"/>
            <a:ext cx="52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kind of art is called sculptur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96252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describe some ways that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ulp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ike or not lik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easily see from photographs like this, bu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ulptur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y are not fl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ulptures can be measur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ght, width and dep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585-A4A5-4D1C-8DB0-C5693198F0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39625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5560" y="50760"/>
            <a:ext cx="66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s have a purpose in making art, jus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s have a purpose in writing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4480" y="3581280"/>
            <a:ext cx="81954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imagine what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art work seem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(telling a stor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what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tory it is tel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you write a story about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dd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about what he is doing or how he is fe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CD2-2F37-4F7F-81E6-D3BFA1E788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305080" cy="3073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72160" y="609480"/>
            <a:ext cx="594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 objects of this type are c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t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am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sometimes ju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tery made in this form may be c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s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w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733920"/>
            <a:ext cx="8678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th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rtist may have formed this p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n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icture for you to predic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his pot may be?  Tell why. What would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you th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in making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?  How could it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E01-C534-4EC8-A005-67BD64B8ED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4114800" cy="267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00016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2400" y="4343400"/>
            <a:ext cx="867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imagine 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you would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reate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 from c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or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ould you tell if you made a sculp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plan to use the pot or bowl that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0240" y="22860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had a chance to make something from clay, 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ather make a sculpture or a pot or bowl?  Tell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080-2F7A-4A40-945B-CD551D3CA8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1:31:38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